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EC58-536C-4F1C-9ECF-909DBB64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B21E-2505-42BB-9DB6-CD70955E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AF69-37A9-472A-846E-872CA9D4D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266C-BEAA-4895-AB08-621F2A0DE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C7CB-4F35-4A55-85BA-ACC52BAA0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09EE-2C3B-420B-8B70-6F446F82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224A-E89F-410E-BB9B-B9A4151E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8FB5-58D2-48CE-AF8B-49437D9D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4541-81BD-4A35-B882-3BDF32DD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6778-ED48-41BC-B768-44FC8362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DAC9-E651-44B3-8F2B-962BF4B7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6C89-39BB-47EE-8569-DBC8563E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9B7D-E4D3-4F8F-8C33-E9ABE18D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91FD-98D8-4CD5-A603-3B04F283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2C45-1E9E-4447-9D5E-FCD4B920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934D-1E2A-41D9-ABF2-140E64972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0CC2-3064-411B-9705-F32049549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6769-F0E8-4C9A-8D57-671DEE9A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6BB9-94FC-41F2-977A-6F9A398D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E255-8377-4A31-8704-48E32EBD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FAB8-0BA2-49B7-B69D-C4CDA2D6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261E-D9AC-46FB-B0BF-21D19D7B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E62F-133C-4365-8A6A-3CBFA09E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92FB-BD6C-4F81-9122-38B0A5AB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7300-C52C-45C8-83DF-B5877F32102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DA3D-D346-4DB4-B707-A83C861DEA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3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مايو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أنشطة المرتبطة بالبي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2209680"/>
            <a:ext cx="374508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الحدود الأئتمان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2819520"/>
            <a:ext cx="29066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3470400"/>
            <a:ext cx="3124080" cy="580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4724280"/>
            <a:ext cx="31244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4019400"/>
            <a:ext cx="281952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حسا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5391000"/>
            <a:ext cx="28958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1523880"/>
            <a:ext cx="359280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فصل بين الأختصاصات المتعارض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33920" y="1523880"/>
            <a:ext cx="22971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دارة 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523880"/>
            <a:ext cx="20685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29400" y="1523880"/>
            <a:ext cx="2144880" cy="703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قبول 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2430360"/>
            <a:ext cx="2112840" cy="3735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مسلسلة لضمان تسجيل كل طلبات العملا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حدود الأئتمان بواسطة ادارة الأئتما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سعر البيع والخصومات الخاصة بواسطة شخص مسئول فى ادارة البيع وليس فى ادارة الحساب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2438280"/>
            <a:ext cx="2112840" cy="2975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خروج بضاعة اواذون شحن مسلسلة لكل البضائع التى يتم خروجها من المنشأ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م ذلك عن طريق ادارة الشحن او بواسطة حارس البوابة وليس بواسطة عضو من ادارة الحساب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2514600"/>
            <a:ext cx="2112840" cy="4161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فواتير مسلسلة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تم تحريرها بواسطة ادارة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مراجعة للتأكد من أنه قد تم تحرير فواتير لكل البضائع المبينة بأذون الشح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رقابة صارمة على اشعارات الخصم لضمان اصدارها بأعتماد مناسب مقابل اذون ارتجا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1797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حديد حدود ائتمان لكل عمي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8600" y="222264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طلبات العملاء مع حساباتهم والحصول على موافقة ادارة الأئتمان فى حالة التجاوز اوالعميل الجديد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78600" y="322884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بيع مسلسلة لتسجيل طلبات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38386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كل طلبات البيع قبل شحن البضاع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452448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البيع لأستخراج أذون شحن لخروج البضاع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5286240"/>
            <a:ext cx="29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خروج أى بضاعة بدون اذن شحن معتم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06800" y="182556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اذون شحن البضاعة مسلسلة رقميا وان يحتفظ بسجل لها للمطابقة مع فواتير البيع وطلبات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06800" y="304488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أعتماد اذون شحن البضائع عند خروج البضائع وان يتم مراجعتها دوريا للتأكد من اكتمالها وان يتم استخراج فواتير لكل منه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190512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فواتير البيع من الشخص المسئول ومراجعتها مع الطلب الأصلى المعتمد واذن الشح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312408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ثبات كل الفواتير واشعارات الخصم فى سجلات يومية المبيعات واستاذ مساعد العملاء واستاذ مراقبة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42670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فواتير البيع واشعارات الخصم بواسطة شخص مستقل عن معد الفواتير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51814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كل الفواتير واشعارات الخصم مسلسة رقميا, وان يتم مراجعة التسلسل بصفة منظم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18288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شعارات الخصم من شخص مشتقل عن اعمال الشحن او القيد فى دفاتر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274320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أحتفاظ بالفواتير الملغا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32004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إلغاء مستندات الشحن المتعلقة بأى فاتورة يتم الغائ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38098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عتمد الفواتير الملغاة او البضاعة المجانية من الشخص المسئو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47242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فصل الأنواع المختلفة من المبيعات وكذا ضريبة المبيعات فى كل فاتورة بي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1430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500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اعتماد اعدام الديون المعدومة كتابة وان تتم التسوية فى استاذ حساب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2743200"/>
            <a:ext cx="2989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قامة اى دعوى قضائية او اعدام احد الديون بواسطة شخص مسئول وان يكون مستقلا عن عمليات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992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فحص البضائع التى يتم اعادتها من العملاء وتحديد العيوب الواضحة بها عند استلامها واثبات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78600" y="274320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داد اشعار خصم لجميع البضائع التى يتم اعادتها من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1828800"/>
            <a:ext cx="2989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ستكمال حساب مراقبة استاذ العملاء بصفة منتظمة وان يتم مراجعته مع رصيد كل نوع من ارصدة استاذ العملاء المساعد بواسطة شخص مستق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45720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متابعة الديون المتأخرة فى السداد وإعداد قائمة بأعمار الديو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327672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حسابات العملاء مستقلة عن اعمال الشحن او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391464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كشوف حساب الى العملاء بصفة دور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52578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خطابات للعملاء لتحصيل الديون المتأخر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ختبارات 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01000" y="15145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447920"/>
            <a:ext cx="75438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 اختبار للتاكد من تسلسل الفواتير واشعارات الخصم واذون الشحن وطلبات العملا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22096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حقق من وجود اعتماد مناسب والتأكد من وجود التوقيع المناسب والتحقق من انه يتم تطبيق الرقابة مثل مراجعة دقة التسعير وحدود الأئتمان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01000" y="24289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31240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حث عن أدلة لمراجعة الدقة المحاسبية للفواتير وأشعارات الخصم و ضريبة المبيعات وعادة مايتم عن طريق وضع ختم على الفاتورة يتطلب توقيع المراجع والتاكد من تطبيق الرقابة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01000" y="3276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96252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ذون الشحن واذون ارتجاع البضائع للتأكد من مطابقتها مع الفواتير واشعارات الخصم والعكس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01000" y="403848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47242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انه قد تم اجراء تسويات حسابات المراقبة وانه قد تم مراجعتها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54100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تطبيق الرقابة على اجماليات كل مجموعة وذلك بالبحث عن التوقيعات وتتبع المجموعات من المدخلات الى المخرجات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01000" y="480060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001000" y="5562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جلات المحاسب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4480" y="1905120"/>
            <a:ext cx="2362320" cy="287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دفتر يومية المبيعات ودفتر مرتجعات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ترحيل كل فاتورة الى الأستاذ العام وحساب المراق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قيود اليومية فى دفتر يومية المبيعات ودفتر مرتجعات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1371600"/>
            <a:ext cx="24382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واتير المبيعات واشعارات الخص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1905120"/>
            <a:ext cx="2438280" cy="565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تسلسل الرقمى للفواتير والسؤال عن الفواتير الغير موجودة وفحص الفواتير الملغا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صور فواتير البيع واشعارت الخصم مع دفتر يومية المبيعات وحسابات استاذ العملاء ومراجعة تحليل المبيعات فى دفتر يومية المبيعات واعتماد اشعارات الخص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لأسعار المدرجة فى الفواتير مع قائمة الأسعار المعتمدةوحدود الأئتمان للعمي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دقة الحسابية لفواتير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شعارات الخصم خاصة البنود الكبيرة او الغير عاد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جلات المخاز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1905120"/>
            <a:ext cx="2438280" cy="39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سيتم تغطيتها تفصيلا فى القسم الثانى من هذا الفصل والتالى يستحق عرضه هن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طابقة اذون شحن البضاعة وسجلات البضاعة المنصرفة مع صور فواتير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حركة البضائع المنصرفة بداية من الفاتورة الى اذون الشحن الى سجلات المخازن والعكس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البضائع المرتجعة من مستندات الرتجاع الى سجلات المخازن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سابات المراقب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1905120"/>
            <a:ext cx="23623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ختبار تسوية حسابات المراقبة بالرجوع الى اصول المستندات ( مثل فواتير البيع , سجلات المرتجعات, والنقدية) والتأكد من اجراء التسويات المناس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1905120"/>
            <a:ext cx="2438280" cy="469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لب فى مستوى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مستويات المبيعات خلال العام على اساس شهر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ذات الفترة من العام الساب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خر شهر فى العام مع اول شهر فى العام التال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تشير التقلبات من شهرلأخر الى سوء تبويب المبيعات  بين الأشهر  اوحذف مبيعات اووجود مبيعات ذات قيمة عال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ى حالة وجودتقلبات غير مبررة يجب اجراء فحص مستند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فصا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1905120"/>
            <a:ext cx="24382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ظهار المبيعات طبقا لنوعية النشاط والموقع الجغرافى للأسوا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حادى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عش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هداف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ختبار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رق</a:t>
            </a: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عض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تحق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76760" y="1295280"/>
            <a:ext cx="22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ناول هذا الفص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18240" y="1600200"/>
            <a:ext cx="348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هداف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ختبار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ات التحق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81400" y="35812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لدورات المحاسبية  الت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6920" y="3733920"/>
            <a:ext cx="293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بي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شتر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ور والمرتب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ق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صول طويلة الأج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5640" y="129528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هد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2057400"/>
            <a:ext cx="6553440" cy="113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فهم المبادئ العامة للأختبارات فى كل دورة </a:t>
            </a:r>
            <a:r>
              <a:rPr b="0" lang="ar-SA" sz="1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لا من حفظ قوائم طويلة منه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28560" y="1447920"/>
            <a:ext cx="74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437760" y="2057400"/>
            <a:ext cx="107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بب المخاطر التى قد تحدث فى حالة عدم وجود مثل هذه الرقابة على سبيل المث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556272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مثلة على مخاطر عدم وجود رقابة على المبيعات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1371600"/>
            <a:ext cx="106668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رقيم اوامر البي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16002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680" y="1295280"/>
            <a:ext cx="2285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ها وعدم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تكرار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768600" y="1295280"/>
            <a:ext cx="53172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ضياع فرصة تحقيق ايرا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سداد قيمة المشتريات التى تكرر استلامهم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160020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72400" y="2514600"/>
            <a:ext cx="10666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مطابقة اذون الشحن مع الفواتي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28195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71040" y="2514600"/>
            <a:ext cx="28692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لا نستطيع ارسال فواتير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ى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3124080"/>
            <a:ext cx="1962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بضائع لم يستلمها ال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2577960"/>
            <a:ext cx="365760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نتيجة ارسال فواتير خاطئة وتحمل تكاليف ادارية لاداعى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حصيل قيم البضاعة اوالخدمة نتيجة عدم اصدار فاتور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29718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3962520"/>
            <a:ext cx="12952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جميع الفواتير ومراجعتها حسابي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4114800"/>
            <a:ext cx="18860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 الفواتير اوتسجيلها بقيمتها الخاطئة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4114800"/>
            <a:ext cx="3657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وجود ارصدة دائنة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علومات المالية غير صحيح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0120" y="5334120"/>
            <a:ext cx="12952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الأحتفاظ بدفتر استاذ مساعد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56386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3360" y="5337000"/>
            <a:ext cx="18860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ظهور اجمالى المديونية دون تحديد رصيد كل 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5410080"/>
            <a:ext cx="36576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تتبع الأرصدة التى مضى تاريخ استحقاق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المطابقة مع العميل فى حالة عدم الأتفا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55627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الرقابة الداخلية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1905120"/>
            <a:ext cx="592956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جميع المعاملات المعتمدة قد تم تسجيلها فى الوقت الصحيح وبالقيم الصحيحة فى الحسابات الصحيحة وفى الفترة المحاسبية الخاصة ب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من له حق التعامل مع الأصول هو الذى يقوم بذل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ه قد تم مقارنة ماتم تسجيله بالدفاتر مع الموجود فعل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وجه التشابه بين الأجراءات الرقابية على المبيعات والمشتريات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752480"/>
            <a:ext cx="8305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ندات مسلسلة مع مرجعة لاحقة للتسلسل لضمان الأكتما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259092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المجموعات واجماليات رقابية اخرى فى مرحلة الأدخال مع مراجعة لاحقة للمخرجات للتأكد من الأكتمال والد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358128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حسابات المراقبة والتاكد من مطابقتها مع دفتر الأستاذ العام والأستاذ المساع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53060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سلطات اعتماد مناسبة عن طريق توقيع الأشخاص المسئولين لانشاء وادخال وتوزيع المستند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5181480"/>
            <a:ext cx="809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تشمل اختبارات الرقابة الحصول على ادلة أن الأجراءات السابق الأشارة اليها قد تم تطبيقها وفى العادة يبحث المراجع عن دليل يوضح ان اجراء الرقابة قد تم تنفيذه مثل التوقي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خاطر الرئيسية المتعلقة بدورتى  المبيعات والمشتريات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752480"/>
            <a:ext cx="83055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شل دورة المبيعات ودورة المشتريات فى تحقيق اهداف المنشأة والتى قد ينتج عنها خسائر مالية  أو تا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259092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راء بضائع غالية الثمن اوغير مناسبة مما يؤدى الى الأنحراف عن الموازنة التقديرية و تحقيق خسائر 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58128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خفاق فى شراء بضائع او خدمات فى الوقت المناسب والذى قد يؤدى الى عدم الأنتهاء فى المواعيد المطلوب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453060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دوث مشتريات اوعمليات بيع غير سليمة مما قد يؤدى الى خسائر مالية أو حدوث تأ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16:06:08Z</dcterms:created>
  <dc:creator>agamal</dc:creator>
  <dc:description/>
  <dc:language>en-US</dc:language>
  <cp:lastModifiedBy>agamal</cp:lastModifiedBy>
  <dcterms:modified xsi:type="dcterms:W3CDTF">2003-05-02T23:10:34Z</dcterms:modified>
  <cp:revision>8</cp:revision>
  <dc:subject/>
  <dc:title>أهداف واجراءات واختبارات الرقابة الداخلية وبعض اجراءات التحقق</dc:title>
</cp:coreProperties>
</file>